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03F9-F7BF-4100-A178-01EECD676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A0B7-C0F5-4341-8054-78A433BD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8600-0E72-41AD-B922-8FA92EAE6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782B-7E72-4FC6-941A-2FC617DF3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2A41-4EF0-420E-8E55-968D84A7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6F1E-DC35-4FC9-A55C-C2A0BE20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7DD4-3290-4F1F-BCBB-481B0AB7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232A-56BE-4673-A8FF-4E8E6449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30C2-ACE2-4B98-A500-8C981AF4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E042-49C5-4D5B-ADB3-22D13907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A873-F8D0-4BF1-9BAC-476BABAE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EB41-8E12-44DC-BD7A-D676847F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C244-73D5-42E6-826B-40688EC39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sihologie, clasa a 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nivelul cel mai înalt de prelucrare şi integrare a informaţiei despre lumea externă şi despre noi înşine. Prin ea se realizează saltul calitativ al activităţii de cunoaştere de 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comp_i"/>
          <p:cNvPicPr/>
          <p:nvPr/>
        </p:nvPicPr>
        <p:blipFill>
          <a:blip r:embed="rId1">
            <a:grayscl/>
          </a:blip>
          <a:stretch/>
        </p:blipFill>
        <p:spPr>
          <a:xfrm>
            <a:off x="5072040" y="2266920"/>
            <a:ext cx="1440000" cy="18003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s15a3</cp:lastModifiedBy>
  <dcterms:modified xsi:type="dcterms:W3CDTF">2012-06-13T14:10:12Z</dcterms:modified>
  <cp:revision>23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